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40.wmf" ContentType="image/x-wmf"/>
  <Override PartName="/ppt/media/image34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9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30.wmf" ContentType="image/x-wmf"/>
  <Override PartName="/ppt/media/image28.wmf" ContentType="image/x-wmf"/>
  <Override PartName="/ppt/media/image4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29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75BD-E3F0-4859-99C4-FBFF2E3EC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bile ad hoc network, so called MANET, is a set of wireless mobile nodes for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des communicate directly with each other over either radio frequency or intrared wireless lin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DC8-F5CD-4133-860F-97B9E85F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1C3-60C6-450D-8644-34F50A71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EDB-C0AF-49D9-B749-99DE2CB5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F50B-CAF7-4CDD-BFAE-02EEC680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FBE1-9EFE-44C2-BDDE-31491C21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56E9-04E1-4A79-B26F-5F11992E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F113-8CD8-4D77-B56C-03C790D8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ADE1-0A34-43A4-AC71-3A40886A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B5A5-2B52-4148-A497-F6207C89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9B2E-217B-4DCC-972D-65761878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F8A2-211C-43F9-A90A-541D970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04C-D53E-466D-BBF0-CDE9A719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BB11-6388-407B-80DB-929A1EFF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4F1E-961A-4947-9455-E349B752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48F5-C287-4DF3-8B07-37944F5D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44D5-9930-489C-BC6F-2F16E8C5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B56B-166B-48A5-B004-9228A94E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D2F-D680-42C1-9C28-323E5819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C4C-A69E-4E4F-96CC-746B8466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CC9-EDCD-4BBE-A200-A4CE3079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6BC-E4AA-4290-B156-8056C39D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B37-7C8E-4770-8AF7-6A4D8626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FA8-52EA-420C-B414-C93FEFA8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3E1-B1FF-4783-8EC8-00F1AC84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DE3D-1FFF-43D5-9267-2E77ECD7A22C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FD65-FE84-42A1-8F82-DDCC2D729F46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8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7.wmf"/><Relationship Id="rId16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Βελτιστοποίηση αλυσίδας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MOS 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αντιστροφέων ως προς την κατανάλωση ενέργειας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 Narrow"/>
              </a:rPr>
              <a:t>Γιακουμής Γιάννης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Arial Narrow"/>
              </a:rPr>
              <a:t>Σταμούλης Γιάννης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2.     Γ – Βελτιστοποίηση με ταυτόχρονη μεταβολή του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izing 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και του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V</a:t>
            </a: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dd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 (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1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820728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Συνδυάζοντας τις δύο παραπάνω τεχνικές μπορούμε να πετύχουμε επιπλέον μείωση της ενέργειας από ότι με την κάθε μία ξεχωριστά.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Οι νέες τιμές για τα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V</a:t>
            </a:r>
            <a:r>
              <a:rPr b="0" lang="en-US" sz="1400" spc="-1" strike="noStrike">
                <a:solidFill>
                  <a:srgbClr val="ffff00"/>
                </a:solidFill>
                <a:latin typeface="Arial Narrow"/>
              </a:rPr>
              <a:t>dd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και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f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θα είναι μεγαλύτερες από τις προηγούμενες βελτιστοποιήσεις, αφού πλέον υπάρχουν δύο παράγοντες οι οποίοι εκμεταλλεύονται την αύξηση της καθυστέρησης.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Απλοποιώντας τον τύπο</a:t>
            </a:r>
            <a:r>
              <a:rPr b="0" lang="el-GR" sz="1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l-GR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,μπορούμε να πούμε ότι: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(βλέπε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Rabey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σελ.218 Παράδειγμα 5.13).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708360" y="4076640"/>
          <a:ext cx="23036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4076640"/>
                    <a:ext cx="23036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258920" y="4797360"/>
          <a:ext cx="165744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4797360"/>
                    <a:ext cx="16574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dbc03"/>
                </a:solidFill>
                <a:latin typeface="Impact"/>
              </a:rPr>
              <a:t>2.     Γ – Βελτιστοποίηση με ταυτόχρονη μεταβολή του </a:t>
            </a: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sizing </a:t>
            </a:r>
            <a:r>
              <a:rPr b="0" lang="el-GR" sz="4000" spc="-1" strike="noStrike">
                <a:solidFill>
                  <a:srgbClr val="fdbc03"/>
                </a:solidFill>
                <a:latin typeface="Impact"/>
              </a:rPr>
              <a:t>και του </a:t>
            </a: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V</a:t>
            </a:r>
            <a:r>
              <a:rPr b="0" lang="en-US" sz="2400" spc="-1" strike="noStrike">
                <a:solidFill>
                  <a:srgbClr val="fdbc03"/>
                </a:solidFill>
                <a:latin typeface="Impact"/>
              </a:rPr>
              <a:t>dd</a:t>
            </a:r>
            <a:r>
              <a:rPr b="0" lang="el-GR" sz="4000" spc="-1" strike="noStrike">
                <a:solidFill>
                  <a:srgbClr val="fdbc03"/>
                </a:solidFill>
                <a:latin typeface="Impact"/>
              </a:rPr>
              <a:t> ( 2 )</a:t>
            </a: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Το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V</a:t>
            </a:r>
            <a:r>
              <a:rPr b="0" lang="en-US" sz="1400" spc="-1" strike="noStrike">
                <a:solidFill>
                  <a:srgbClr val="ffff00"/>
                </a:solidFill>
                <a:latin typeface="Arial Narrow"/>
              </a:rPr>
              <a:t>dd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μπορεί να γραφτεί συναρτήσει του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f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, χρησιμοποιώντας την σχέση: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όπου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x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=10% , 20% , 30% .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Αντικαθιστώντας το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V</a:t>
            </a:r>
            <a:r>
              <a:rPr b="0" lang="en-US" sz="1400" spc="-1" strike="noStrike">
                <a:solidFill>
                  <a:srgbClr val="ffff00"/>
                </a:solidFill>
                <a:latin typeface="Arial Narrow"/>
              </a:rPr>
              <a:t>dd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 f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)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στη σχέση: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μπορούμε να βρούμε τα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f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και 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V</a:t>
            </a:r>
            <a:r>
              <a:rPr b="0" lang="en-US" sz="1400" spc="-1" strike="noStrike">
                <a:solidFill>
                  <a:srgbClr val="ffff00"/>
                </a:solidFill>
                <a:latin typeface="Arial Narrow"/>
              </a:rPr>
              <a:t>dd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για ελάχιστη κατανάλωση ενέργειας.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00000" y="2500200"/>
          <a:ext cx="4896000" cy="9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500200"/>
                    <a:ext cx="4896000" cy="9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572000" y="4005360"/>
          <a:ext cx="2376360" cy="76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005360"/>
                    <a:ext cx="2376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2. Γ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.       X = 10%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11280" y="1700280"/>
          <a:ext cx="77770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7777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2. Γ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.       X = 20%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258920" y="1773360"/>
          <a:ext cx="6913440" cy="46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73360"/>
                    <a:ext cx="691344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2. Γ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.       X = 30%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9640" y="1844640"/>
          <a:ext cx="813780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844640"/>
                    <a:ext cx="813780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2. </a:t>
            </a:r>
            <a:r>
              <a:rPr b="0" lang="el-GR" sz="4000" spc="-1" strike="noStrike">
                <a:solidFill>
                  <a:srgbClr val="fdbc03"/>
                </a:solidFill>
                <a:latin typeface="Impact"/>
              </a:rPr>
              <a:t>Γ .  Συγκεντρωτικά αποτελέσματα</a:t>
            </a: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95280" y="1989000"/>
          <a:ext cx="8350200" cy="4211640"/>
        </p:xfrm>
        <a:graphic>
          <a:graphicData uri="http://schemas.openxmlformats.org/drawingml/2006/table">
            <a:tbl>
              <a:tblPr/>
              <a:tblGrid>
                <a:gridCol w="835200"/>
                <a:gridCol w="834840"/>
                <a:gridCol w="835200"/>
                <a:gridCol w="834840"/>
                <a:gridCol w="835200"/>
                <a:gridCol w="834840"/>
                <a:gridCol w="835200"/>
                <a:gridCol w="834840"/>
                <a:gridCol w="835200"/>
                <a:gridCol w="834840"/>
              </a:tblGrid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p</a:t>
                      </a:r>
                      <a:endParaRPr b="0" lang="en-US" sz="16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f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opt</a:t>
                      </a:r>
                      <a:endParaRPr b="0" lang="en-US" sz="16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V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dd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red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(%)</a:t>
                      </a: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=10%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7,98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,1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,1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,4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4,09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9,4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,0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5,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=</a:t>
                      </a:r>
                      <a:r>
                        <a:rPr b="1" lang="el-GR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0%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0,5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,98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,98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,17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2,64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6,78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,74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1,6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=</a:t>
                      </a:r>
                      <a:r>
                        <a:rPr b="1" lang="el-GR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0%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3,06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,947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,947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,1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2,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6,18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,5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0,6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	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	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2.Γ. 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	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Παρατήρηση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Οι τιμές που προκύπτουν για το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Vdd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είναι μικρότερες από αυτές που προέκυψαν στο Β ερώτημα. Αυτό οφείλεται στην απλοποίηση που χρησιμοποιήθηκε για την επίδραση του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V</a:t>
            </a:r>
            <a:r>
              <a:rPr b="0" lang="en-US" sz="1400" spc="-1" strike="noStrike">
                <a:solidFill>
                  <a:srgbClr val="ffff00"/>
                </a:solidFill>
                <a:latin typeface="Arial Narrow"/>
              </a:rPr>
              <a:t>dd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στην καθυστέρηση. Αν στο Β είχε χρησιμοποιηθεί ο απλοποιημένος τύπος (ο οποίος δεν λαμβάνει υπόψιν την παράμετρο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a</a:t>
            </a:r>
            <a:r>
              <a:rPr b="0" lang="en-US" sz="1400" spc="-1" strike="noStrike">
                <a:solidFill>
                  <a:srgbClr val="ffff00"/>
                </a:solidFill>
                <a:latin typeface="Arial Narrow"/>
              </a:rPr>
              <a:t>d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),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οι τιμές για την τάση τροφοδοσίας είναι 1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.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95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V, 1.65V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και 1.46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V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αντίστοιχα, οι οποίες είναι όντως μικρότερες από αυτές που υπολογίστηκαν στο Γ.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dbc03"/>
                </a:solidFill>
                <a:latin typeface="Impact"/>
              </a:rPr>
              <a:t>Κεφάλαιο 5-</a:t>
            </a: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 Rabey Project 1</a:t>
            </a:r>
            <a:br>
              <a:rPr sz="4000"/>
            </a:br>
            <a:r>
              <a:rPr b="0" lang="el-GR" sz="4000" spc="-1" strike="noStrike">
                <a:solidFill>
                  <a:srgbClr val="fdbc03"/>
                </a:solidFill>
                <a:latin typeface="Impact"/>
              </a:rPr>
              <a:t>Εκφώνηση προβλήματος (1)</a:t>
            </a: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7848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8e2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Ζητείται να βελτιστοποιηθεί το παρακάτω κύκλωμα: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1)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ae8e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ae8e2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, Sizing=; , Eref=; ,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26920" y="2997360"/>
          <a:ext cx="669780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997360"/>
                    <a:ext cx="66978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330800" y="3219480"/>
          <a:ext cx="4824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30800" y="3219480"/>
                    <a:ext cx="482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330800" y="3219480"/>
          <a:ext cx="48240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30800" y="3219480"/>
                    <a:ext cx="482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116000" y="5157720"/>
          <a:ext cx="1297080" cy="90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5157720"/>
                    <a:ext cx="1297080" cy="9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dbc03"/>
                </a:solidFill>
                <a:latin typeface="Impact"/>
              </a:rPr>
              <a:t>Εκφώνηση προβλήματος (2)</a:t>
            </a: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2)Εάν επιτραπεί αύξηση της καθυστέρησης κατά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x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% (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 x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=10, 20, 30),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να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ελαχιστοποιηθεί η κατανάλωση ενέργειας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Α) μεταβάλλοντας το μέγεθος πύλης 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zing=; ,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 μείωση ενέργειας=;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Β) μεταβάλλοντας την τάση τροφοδοσίας (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=;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 μείωση ενέργειας=;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Γ) μεταβάλλοντας το μέγεθος πύλης και την τάση τροφοδοσίας (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izing=;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=;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 μείωση ενέργειας=;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Δίνονται: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γ=1.11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Von=0.61Volt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148360" y="2997360"/>
          <a:ext cx="720720" cy="33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997360"/>
                    <a:ext cx="72072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042920" y="3645000"/>
          <a:ext cx="647640" cy="28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645000"/>
                    <a:ext cx="64764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619280" y="5229360"/>
          <a:ext cx="1224000" cy="36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5229360"/>
                    <a:ext cx="122400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619280" y="5589720"/>
          <a:ext cx="1512720" cy="35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5589720"/>
                    <a:ext cx="151272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ΛΥΣΗ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Για ελάχιστη καθυστέρηση ισχύει: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(Σχέση 1)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Πολλαπλασιάζοντας κατά μέλη προκύπτει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44640" y="3933720"/>
          <a:ext cx="35114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3933720"/>
                    <a:ext cx="35114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932360" y="4653000"/>
          <a:ext cx="1193760" cy="37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4653000"/>
                    <a:ext cx="119376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187280" y="2060640"/>
            <a:ext cx="6697800" cy="136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611280" y="5229360"/>
          <a:ext cx="6024600" cy="1311120"/>
        </p:xfrm>
        <a:graphic>
          <a:graphicData uri="http://schemas.openxmlformats.org/drawingml/2006/table">
            <a:tbl>
              <a:tblPr/>
              <a:tblGrid>
                <a:gridCol w="1204920"/>
                <a:gridCol w="1204920"/>
                <a:gridCol w="1204560"/>
                <a:gridCol w="1204920"/>
                <a:gridCol w="1205280"/>
              </a:tblGrid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4,536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4,115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8,666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8,22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71640" y="5300640"/>
          <a:ext cx="431640" cy="50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5300640"/>
                    <a:ext cx="4316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195640" y="5300640"/>
          <a:ext cx="433440" cy="503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95640" y="5300640"/>
                    <a:ext cx="4334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348000" y="5300640"/>
          <a:ext cx="407880" cy="503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48000" y="5300640"/>
                    <a:ext cx="4078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572000" y="5300640"/>
          <a:ext cx="358920" cy="504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0" y="5300640"/>
                    <a:ext cx="358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796000" y="5300640"/>
          <a:ext cx="433440" cy="5176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6000" y="5300640"/>
                    <a:ext cx="43344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1 - Υπολογισμός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t</a:t>
            </a: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min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και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E</a:t>
            </a: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ref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38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l-GR" sz="20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Για ένα αντιστροφέα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. Για βέλτιστη καθυστέρηση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f=fopt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για όλες τις βαθμίδες άρα 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Η κατανάλωση ενέργειας είναι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Εάν θεωρήσουμε ότι το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είναι σταθερό, μπορούμε να υπολογίσουμε την κατανάλωση ενέργειας μόνο για μία μετάβαση, δηλαδή    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όπου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l-GR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l-GR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Σχέση 2)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Για</a:t>
            </a:r>
            <a:r>
              <a:rPr b="0" lang="el-GR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f=fopt=4.536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και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Vdd=2.5Volt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: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348000" y="1628640"/>
          <a:ext cx="194472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628640"/>
                    <a:ext cx="19447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116000" y="2492280"/>
          <a:ext cx="446400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2492280"/>
                    <a:ext cx="44640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356000" y="3141720"/>
          <a:ext cx="186048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3141720"/>
                    <a:ext cx="18604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971640" y="4797360"/>
          <a:ext cx="7056360" cy="8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1640" y="4797360"/>
                    <a:ext cx="705636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595760" y="5805360"/>
          <a:ext cx="1465200" cy="43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95760" y="5805360"/>
                    <a:ext cx="14652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851280" y="3429000"/>
          <a:ext cx="360360" cy="372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51280" y="3429000"/>
                    <a:ext cx="3603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124000" y="4005360"/>
          <a:ext cx="1440000" cy="360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24000" y="4005360"/>
                    <a:ext cx="1440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2.           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Α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-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 Βελτιστοποίηση με μεταβολή του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izing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( 1 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312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Για αυξημένη καθυστέρηση, μπορούμε να μικρύνουμε το μέγεθος των αντιστροφέων, άρα και τις χωρητικότητες, με αποτέλεσμα την μείωση της κατανάλωσης ενέργειας. Οι πρώτες 4 βαθμίδες έχουν σταθερό λόγο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        .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Στην τελευταία βαθμίδα η καθυστέρηση καθορίζεται από το σταθερό φορτίο εξόδου(=128).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Όμως από την (1) είναι: 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οπότε: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332000" y="5589720"/>
          <a:ext cx="439236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5589720"/>
                    <a:ext cx="43923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556000" y="2781360"/>
          <a:ext cx="48564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2781360"/>
                    <a:ext cx="485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908000" y="3789360"/>
          <a:ext cx="4248360" cy="93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3789360"/>
                    <a:ext cx="42483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3635280" y="4797360"/>
          <a:ext cx="1506600" cy="65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797360"/>
                    <a:ext cx="15066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dbc03"/>
                </a:solidFill>
                <a:latin typeface="Impact"/>
              </a:rPr>
              <a:t>2.         Α – Βελτιστοποίηση με μεταβολή του </a:t>
            </a: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sizing</a:t>
            </a:r>
            <a:r>
              <a:rPr b="0" lang="el-GR" sz="4000" spc="-1" strike="noStrike">
                <a:solidFill>
                  <a:srgbClr val="fdbc03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fdbc03"/>
                </a:solidFill>
                <a:latin typeface="Impact"/>
              </a:rPr>
              <a:t>( 2 )</a:t>
            </a: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476360" y="1916280"/>
          <a:ext cx="1871640" cy="31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16280"/>
                    <a:ext cx="187164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500720" y="1700280"/>
          <a:ext cx="216036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700280"/>
                    <a:ext cx="21603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95280" y="1844640"/>
            <a:ext cx="8136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Για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      ,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 και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   , 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προκύπτουν τα παρακάτω αποτελέσματα: 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Αν θεωρήσουμε ότι η αύξηση της καθυστέρησης συνεπάγεται και μείωση του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f</a:t>
            </a:r>
            <a:r>
              <a:rPr b="0" lang="en-US" sz="1400" spc="-1" strike="noStrike">
                <a:solidFill>
                  <a:srgbClr val="ffff00"/>
                </a:solidFill>
                <a:latin typeface="Arial Narrow"/>
              </a:rPr>
              <a:t>clk</a:t>
            </a:r>
            <a:endParaRPr b="0" lang="en-US" sz="1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προκύπτει επιπλέον μείωση της ενέργειας. Οι νέες τιμές για την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ed</a:t>
            </a:r>
            <a:r>
              <a:rPr b="1" lang="el-GR" sz="2000" spc="-1" strike="noStrike">
                <a:solidFill>
                  <a:srgbClr val="ffff00"/>
                </a:solidFill>
                <a:latin typeface="Arial Narrow"/>
              </a:rPr>
              <a:t> είναι 39.7%,  48.5% και 54.7%.</a:t>
            </a: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0" lang="en-US" sz="8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8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0" lang="en-US" sz="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8e2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4360" y="2637000"/>
          <a:ext cx="7273800" cy="3257280"/>
        </p:xfrm>
        <a:graphic>
          <a:graphicData uri="http://schemas.openxmlformats.org/drawingml/2006/table">
            <a:tbl>
              <a:tblPr/>
              <a:tblGrid>
                <a:gridCol w="853920"/>
                <a:gridCol w="762120"/>
                <a:gridCol w="807840"/>
                <a:gridCol w="809640"/>
                <a:gridCol w="806400"/>
                <a:gridCol w="809640"/>
                <a:gridCol w="808200"/>
                <a:gridCol w="806400"/>
                <a:gridCol w="809640"/>
              </a:tblGrid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t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p</a:t>
                      </a:r>
                      <a:endParaRPr b="0" lang="en-US" sz="16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f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opt</a:t>
                      </a:r>
                      <a:endParaRPr b="0" lang="en-US" sz="16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4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E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red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(%)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=10%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7,98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,5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,5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,46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8,65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0,1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3,66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=</a:t>
                      </a:r>
                      <a:r>
                        <a:rPr b="1" lang="el-GR" sz="20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0%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0,52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,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,3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2,18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,19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7,9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8,15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=</a:t>
                      </a:r>
                      <a:r>
                        <a:rPr b="1" lang="el-GR" sz="20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0%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3,06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,14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3,14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1,97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,19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6,48</a:t>
                      </a:r>
                      <a:endParaRPr b="0" lang="en-US" sz="20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8e2"/>
                          </a:solidFill>
                          <a:latin typeface="Arial Narrow"/>
                        </a:rPr>
                        <a:t>41,14</a:t>
                      </a:r>
                      <a:endParaRPr b="0" lang="en-US" sz="1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 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2.      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B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 – Βελτιστοποίηση με μεταβολή του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V</a:t>
            </a: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dd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 ( 1 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856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Για αυξημένη καθυστέρηση, μπορούμε να μικρύνουμε την τάση τροφοδοσίας, οπότε επιτυγχάνουμε μείωση της κατανάλωσης ενέργειας.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Η καθυστέρηση ενός αντιστροφέα σε σχέση με την τάση τροφοδοσίας δίνεται από τη σχέση: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όπου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         ,  παράμετρος σχετική με την τάση κατωφλίου,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,  παράμετρος σχετική με την ταχύτητα κόρου και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,  παράμετρος σχετική με χωρητικότητες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908000" y="3284640"/>
          <a:ext cx="24480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84640"/>
                    <a:ext cx="2448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619280" y="4581360"/>
          <a:ext cx="165564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4581360"/>
                    <a:ext cx="1655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692360" y="5157720"/>
          <a:ext cx="1224000" cy="4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5157720"/>
                    <a:ext cx="1224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124000" y="5805360"/>
          <a:ext cx="432000" cy="37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5805360"/>
                    <a:ext cx="43200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2.     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B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 – Βελτιστοποίηση με μεταβολή του 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V</a:t>
            </a:r>
            <a:r>
              <a:rPr b="0" lang="en-US" sz="2800" spc="-1" strike="noStrike">
                <a:solidFill>
                  <a:srgbClr val="fdbc03"/>
                </a:solidFill>
                <a:latin typeface="Impact"/>
              </a:rPr>
              <a:t>dd</a:t>
            </a:r>
            <a:r>
              <a:rPr b="0" lang="el-GR" sz="4400" spc="-1" strike="noStrike">
                <a:solidFill>
                  <a:srgbClr val="fdbc03"/>
                </a:solidFill>
                <a:latin typeface="Impact"/>
              </a:rPr>
              <a:t> ( 2 )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0728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Συνεπώς για αύξηση της καθυστέρησης κατά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x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% έχουμε: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Για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,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  και  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Arial Narrow"/>
              </a:rPr>
              <a:t>προκύππτουν τα παρακάτω αποτελέσματα: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18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116000" y="2627280"/>
          <a:ext cx="482436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27280"/>
                    <a:ext cx="482436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1187280" y="3789360"/>
          <a:ext cx="2016360" cy="30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789360"/>
                    <a:ext cx="201636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4140360" y="3573360"/>
          <a:ext cx="187164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0360" y="3573360"/>
                    <a:ext cx="18716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971640" y="4724280"/>
          <a:ext cx="5832360" cy="1584360"/>
        </p:xfrm>
        <a:graphic>
          <a:graphicData uri="http://schemas.openxmlformats.org/drawingml/2006/table">
            <a:tbl>
              <a:tblPr/>
              <a:tblGrid>
                <a:gridCol w="1458000"/>
                <a:gridCol w="1458000"/>
                <a:gridCol w="1458360"/>
                <a:gridCol w="1458000"/>
              </a:tblGrid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=10%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=20%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X=30%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1368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dd</a:t>
                      </a:r>
                      <a:endParaRPr b="0" lang="en-US" sz="16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,2615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,0764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,9288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5760">
                      <a:solidFill>
                        <a:srgbClr val="eae8e2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E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red</a:t>
                      </a:r>
                      <a:endParaRPr b="0" lang="en-US" sz="16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,17%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1,02%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576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,48%</a:t>
                      </a:r>
                      <a:endParaRPr b="0" lang="en-US" sz="2800" spc="-1" strike="noStrike">
                        <a:solidFill>
                          <a:srgbClr val="eae8e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8e2"/>
                      </a:solidFill>
                    </a:lnL>
                    <a:lnR w="13680">
                      <a:solidFill>
                        <a:srgbClr val="eae8e2"/>
                      </a:solidFill>
                    </a:lnR>
                    <a:lnT w="5760">
                      <a:solidFill>
                        <a:srgbClr val="eae8e2"/>
                      </a:solidFill>
                    </a:lnT>
                    <a:lnB w="13680">
                      <a:solidFill>
                        <a:srgbClr val="eae8e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2T09:57:32Z</dcterms:created>
  <dc:creator>Σπήλιος Γιαννούλης</dc:creator>
  <dc:description/>
  <dc:language>en-US</dc:language>
  <cp:lastModifiedBy>yiannis</cp:lastModifiedBy>
  <dcterms:modified xsi:type="dcterms:W3CDTF">2005-07-11T15:19:29Z</dcterms:modified>
  <cp:revision>114</cp:revision>
  <dc:subject/>
  <dc:title>Mobile Ad hoc Networks (MANETs)</dc:title>
</cp:coreProperties>
</file>