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64C9-D484-4DCD-B3DA-3F82C8F8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1170-E8E3-4FFB-8023-16CDB942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499A-2A66-446E-B7C9-20B047D9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4BCD-F032-4C80-B725-A68C4E07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B584-0C86-46F2-8DA7-9B0D2E63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B046-A97B-4B0A-9687-4392D032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9C8A-FDBB-4FC3-8AE5-E54E0DC1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F1F0-2E20-4CA1-9D36-A346BA06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C3ED-3729-4311-B5C0-ED20EDFD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990-0D0A-4CF1-BA2F-173D413C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2B0B-DC73-4214-A350-1593097D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D78C-C896-4759-9C01-20BE78F1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C5AD-4347-45B8-9DC1-EE69A4A05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0000"/>
                </a:solidFill>
                <a:latin typeface="Arial"/>
              </a:rPr>
              <a:t>Κεφάλαιο 4 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573360"/>
            <a:ext cx="6400800" cy="21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υγκεντρωμέν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οντέλ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Άσκηση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Χριστίνα Γράψ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5050"/>
                </a:solidFill>
                <a:latin typeface="Arial"/>
              </a:rPr>
              <a:t>Σχηματική αναπαράσταση υπολογισμού της </a:t>
            </a:r>
            <a:r>
              <a:rPr b="0" lang="en-US" sz="4000" spc="-1" strike="noStrike">
                <a:solidFill>
                  <a:srgbClr val="ff5050"/>
                </a:solidFill>
                <a:latin typeface="Arial"/>
              </a:rPr>
              <a:t>R</a:t>
            </a:r>
            <a:r>
              <a:rPr b="0" lang="en-US" sz="4000" spc="-1" strike="noStrike" baseline="-25000">
                <a:solidFill>
                  <a:srgbClr val="ff5050"/>
                </a:solidFill>
                <a:latin typeface="Arial"/>
              </a:rPr>
              <a:t>B</a:t>
            </a:r>
            <a:r>
              <a:rPr b="0" lang="el-GR" sz="4000" spc="-1" strike="noStrike" baseline="-25000">
                <a:solidFill>
                  <a:srgbClr val="ff505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 πράσινο χρώμα δείχνουμε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πό Α στο κόμβο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 κόκκινο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από το Α στο 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ροκύπτει από την τομή των αντιστάσεων των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ηλαδή ισούται με τη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1806480"/>
            <a:ext cx="4038480" cy="1773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4084560"/>
            <a:ext cx="403848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5050"/>
                </a:solidFill>
                <a:latin typeface="Arial"/>
              </a:rPr>
              <a:t>Υπολογισμός της καθυστέρησης </a:t>
            </a:r>
            <a:r>
              <a:rPr b="0" lang="en-US" sz="4000" spc="-1" strike="noStrike">
                <a:solidFill>
                  <a:srgbClr val="ff5050"/>
                </a:solidFill>
                <a:latin typeface="Arial"/>
              </a:rPr>
              <a:t>Elmo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002440" cy="2303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68360" y="4581360"/>
            <a:ext cx="489600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9999"/>
                </a:solidFill>
                <a:latin typeface="Arial"/>
              </a:rPr>
              <a:t>Άσκηση 4.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Για το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δέντρο που δίνεται στο σχήμα  υπολογίστε την καθυστέρησ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more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από τον κόμβο Α στο κόμβο Β, χρησιμοποιώντας τις τιμές των αντιστάσεων και των πυκνωτών  στον πίνακ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RC </a:t>
            </a:r>
            <a:r>
              <a:rPr b="0" lang="el-GR" sz="4000" spc="-1" strike="noStrike">
                <a:solidFill>
                  <a:srgbClr val="99cc00"/>
                </a:solidFill>
                <a:latin typeface="Arial"/>
              </a:rPr>
              <a:t>δέντρο για τον υπολογισμό της καθυστέρησης </a:t>
            </a: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Elm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14680" y="2514600"/>
            <a:ext cx="57150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99cc00"/>
                </a:solidFill>
                <a:latin typeface="Arial"/>
              </a:rPr>
              <a:t>Πίνακας με τις τιμές των αντιστάσεων και πυκνωτώ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452680" y="2152800"/>
            <a:ext cx="423864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009999"/>
                </a:solidFill>
                <a:latin typeface="Arial"/>
              </a:rPr>
              <a:t>Λύση της άσκηση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ρχικά οφείλουμε να διαπιστώσουμε αν πράγματι το κύκλωμα του σχήματος  αποτελεί ένα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C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δέντρο. Οι απαραίτητες προϋποθέσεις είνα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όλοι οι πυκνωτές να είναι μεταξύ ενός κόμβου και της γείωση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κύκλωμα να μην περιλαμβάνει κανένα ωμικό βρόχ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α παραπάνω ισχύουν και θεωρώντας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μόνο ένα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κόμβο εισόδου, τον Α, μπορούμε να χρησιμοποιήσουμε τις παρακάτω σχέσεις για να βρούμε την καθυστέρησ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mor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1640" y="2781360"/>
            <a:ext cx="59547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5050"/>
                </a:solidFill>
                <a:latin typeface="Arial"/>
              </a:rPr>
              <a:t>Θεωρήσει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όπο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είναι ο κόμβος Α και όπο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ο κόμβος 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νομάζουμε 1 τον κόμβο ανάμεσα στην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1 και τον πυκνωτή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Ονομάζουμε 2 τον κόμβο ανάμεσα στην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2 και τον πυκνωτή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υνεχίζουμε ομοίως για τις υπόλοιπες αντιστάσεις και πυκνωτέ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5050"/>
                </a:solidFill>
                <a:latin typeface="Arial"/>
              </a:rPr>
              <a:t>Υπολογισμός της αντίσταση κατά μήκος της ωμικής διαδρομής από το κόμβο Α στο 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90680" y="2276640"/>
            <a:ext cx="3971880" cy="1657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2276640"/>
            <a:ext cx="40384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ff5050"/>
                </a:solidFill>
                <a:latin typeface="Arial"/>
              </a:rPr>
              <a:t>Υπολογισμός των </a:t>
            </a:r>
            <a:r>
              <a:rPr b="0" lang="en-US" sz="4000" spc="-1" strike="noStrike">
                <a:solidFill>
                  <a:srgbClr val="ff5050"/>
                </a:solidFill>
                <a:latin typeface="Arial"/>
              </a:rPr>
              <a:t>shared</a:t>
            </a:r>
            <a:r>
              <a:rPr b="0" lang="el-GR" sz="40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5050"/>
                </a:solidFill>
                <a:latin typeface="Arial"/>
              </a:rPr>
              <a:t>path</a:t>
            </a:r>
            <a:r>
              <a:rPr b="0" lang="el-GR" sz="4000" spc="-1" strike="noStrike">
                <a:solidFill>
                  <a:srgbClr val="ff5050"/>
                </a:solidFill>
                <a:latin typeface="Arial"/>
              </a:rPr>
              <a:t> αντιστάσε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50403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8:09:12Z</dcterms:created>
  <dc:creator>lekani</dc:creator>
  <dc:description/>
  <dc:language>en-US</dc:language>
  <cp:lastModifiedBy>lekani</cp:lastModifiedBy>
  <dcterms:modified xsi:type="dcterms:W3CDTF">2005-07-05T19:06:19Z</dcterms:modified>
  <cp:revision>9</cp:revision>
  <dc:subject/>
  <dc:title>Κεφάλαιο 4 - The wire</dc:title>
</cp:coreProperties>
</file>