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9E63-8742-4155-926E-39C3EDB0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24F54-06CF-40CE-BE50-6DF6449D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C698-CB97-4DEB-92A1-2ECDE951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1E70-5043-4F21-88FB-6700F3D1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5642-1027-4996-8E20-F4D5DFCD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2AFE-3B86-41E5-9FD4-B9F59F74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EBA1-8852-4C97-9647-3CD8A90E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D9B1-3D13-4C57-8329-555DC5BC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3003-15D5-4C1D-9217-10232AD4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450A-53C8-4CBD-A12F-7D648197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D6E9-31C4-4C02-8031-417CD784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6E89-D0F2-430F-91E7-2750F440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9A43-7DAB-4B17-9D70-89E9DA91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1DB4-AAEE-45E8-99DD-D31895D2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6D91-1939-49D4-A76F-D4988C5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540A-B94E-4EAF-9679-2508C13D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47A1-E29D-44B1-8D7F-B09F8B6F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2B8B-162B-4B6F-B152-75E6CDA1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9956-952C-46B0-B080-5DD01900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9B1A-EF31-434B-8E7A-7565BFB0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BF6D-014E-4D61-8615-4200F3B5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9BE8-9DDB-4269-871C-822A7D90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3F3A-013E-4408-B73A-210C0DAA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59FD-FDAA-4D76-90FE-FC8FF6EB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6849-14FE-4BEB-92FF-6EF32CB7F23D}" type="slidenum">
              <a:rPr b="0" lang="el-G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AC2C-6B47-467F-A8F4-FCF39105D1BC}" type="slidenum">
              <a:rPr b="0" lang="el-G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l-GR" sz="4400" spc="-1" strike="noStrike">
                <a:solidFill>
                  <a:srgbClr val="9999ff"/>
                </a:solidFill>
                <a:latin typeface="Arial"/>
              </a:rPr>
              <a:t>Λογική με Πύλες</a:t>
            </a: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1" lang="el-GR" sz="4400" spc="-1" strike="noStrike">
                <a:solidFill>
                  <a:srgbClr val="9999ff"/>
                </a:solidFill>
                <a:latin typeface="Arial"/>
              </a:rPr>
              <a:t>Διέλευσης και</a:t>
            </a: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1" lang="el-GR" sz="4400" spc="-1" strike="noStrike">
                <a:solidFill>
                  <a:srgbClr val="9999ff"/>
                </a:solidFill>
                <a:latin typeface="Arial"/>
              </a:rPr>
              <a:t>αποκατάσταση επιπέδου τάσ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Σενάρ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0 V  , out =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   Α   από   ( 0 </a:t>
            </a:r>
            <a:r>
              <a:rPr b="0" lang="el-G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Mn1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φορτίζει το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ως το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υτή η τιμή είναι αρκετή για να γίνε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από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Άρα το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ίνετα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όγω ανάδρασης και έτσι «τραβάει» το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14972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υτή η τεχνική εξαλείφει το πρόβλημα της στατικής κατανάλωσης ισχύος , αλλά προσθέτει πολυπλοκότητα, γιατί πλέον το κύκλωμα γίνετα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λαδή πρέπει να αλλάξει 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λόγο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/L)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ω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stor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υ κόμβο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ό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-networ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έλει να «τραβήξει» σε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ν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l_down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ν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θέλει να τον συγκρατήσει  σε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l_up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43052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666699"/>
                </a:solidFill>
                <a:latin typeface="Arial"/>
              </a:rPr>
              <a:t>ΣΥΜΠΕΡΑΣ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έλουμε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stron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l-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κτύωμ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δηλαδή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ό 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l-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v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λαδή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7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Γνωρίζοντας τις τιμές των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/L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για τα  Μ1 και Μ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συμπεραίνουμε ότι ο αντιστροφέας έχει κατώφλι μεταγωγής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(μας δίνεται και στην εκφώνηση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Ο τιμή της τάσης του κόμβου   </a:t>
            </a:r>
            <a:r>
              <a:rPr b="1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 , λοιπόν, πρέπει να πέσει κάτω από αυτή την τιμή </a:t>
            </a:r>
            <a:r>
              <a:rPr b="0" lang="el-GR" sz="3200" spc="-1" strike="noStrike" u="sng">
                <a:solidFill>
                  <a:srgbClr val="666699"/>
                </a:solidFill>
                <a:uFillTx/>
                <a:latin typeface="Arial"/>
              </a:rPr>
              <a:t>(</a:t>
            </a:r>
            <a:r>
              <a:rPr b="0" lang="en-US" sz="2900" spc="-1" strike="noStrike" u="sng">
                <a:solidFill>
                  <a:srgbClr val="666699"/>
                </a:solidFill>
                <a:uFillTx/>
                <a:latin typeface="Arial"/>
              </a:rPr>
              <a:t>V</a:t>
            </a:r>
            <a:r>
              <a:rPr b="1" lang="en-US" sz="1500" spc="-1" strike="noStrike" u="sng">
                <a:solidFill>
                  <a:srgbClr val="666699"/>
                </a:solidFill>
                <a:uFillTx/>
                <a:latin typeface="Arial"/>
              </a:rPr>
              <a:t>DD</a:t>
            </a:r>
            <a:r>
              <a:rPr b="0" lang="en-US" sz="2900" spc="-1" strike="noStrike" u="sng">
                <a:solidFill>
                  <a:srgbClr val="666699"/>
                </a:solidFill>
                <a:uFillTx/>
                <a:latin typeface="Arial"/>
              </a:rPr>
              <a:t>/2</a:t>
            </a:r>
            <a:r>
              <a:rPr b="0" lang="el-GR" sz="3200" spc="-1" strike="noStrike" u="sng">
                <a:solidFill>
                  <a:srgbClr val="666699"/>
                </a:solidFill>
                <a:uFillTx/>
                <a:latin typeface="Arial"/>
              </a:rPr>
              <a:t>)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 για να γίνει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witch 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στο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erter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Mr     </a:t>
            </a:r>
            <a:r>
              <a:rPr b="1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shut-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Χρησιμοποιώντας  την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nsient response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του κόμβου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συναρτήσει του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ze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του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vel restorer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Mr)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ε τα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/L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των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ansistor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1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n2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  σταθερά σε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0.5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/0.25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) ,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έχουμε τα εξής αποτελέσματ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1600" y="271440"/>
            <a:ext cx="82026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/L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1.5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/0.25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 u="sng">
                <a:solidFill>
                  <a:srgbClr val="666699"/>
                </a:solidFill>
                <a:uFillTx/>
                <a:latin typeface="Arial"/>
              </a:rPr>
              <a:t>δεν μπορεί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να περάσει το κατώφλι μεταγωγή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ing threshol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υ αντιστροφέ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εν γίνετ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ην έξοδο  </a:t>
            </a:r>
            <a:r>
              <a:rPr b="0" lang="el-G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3500" spc="-1" strike="noStrike">
                <a:solidFill>
                  <a:srgbClr val="000000"/>
                </a:solidFill>
                <a:latin typeface="Arial"/>
              </a:rPr>
              <a:t>ΠΡΟΒΛΗΜΑ</a:t>
            </a:r>
            <a:r>
              <a:rPr b="0" lang="el-GR" sz="3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2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ώτημα 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λοποιήστε το ίδιο κύκλωμα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-transistor network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ην χρήση πυλών διέλευσης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υτή είναι η πιο διαδεδομένη λύση για το πρόβλημα το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-drop 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ο οποίο μας οδηγεί σ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power diss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Η κατασκευή λογικών κυκλωμάτων με τ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χρή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 gat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κμεταλλεύεται τις ιδιότητες τω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666699"/>
                </a:solidFill>
                <a:latin typeface="Arial"/>
              </a:rPr>
              <a:t>ΝΜΟ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περνάνε δυνατό 0, αλλά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δύναμο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PMO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περνάνε δυνατό 1, αλλά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δύναμο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Άρα, λοιπόν, χρησιμοποιούμ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-dow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Όπως γνωρίζουμε μι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 g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οτελείται από έν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έν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αράλληλα συνδεδεμέ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Έχουμε το παρακάτω κύκλωμα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Μας δίνονται οδηγίες να υποθέσουμε ότι ο αντιστροφέας έχει ιδανική μεταγωγή σε επίπεδο τάσης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, να μην λάβουμε υπόψιν μας το φαινόμενο σώματος ,την διαμόρφωση του μήκους καναλιού και όλων των παρασιτικών χωρητικοτήτω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3887640" cy="2982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72000" cy="237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ώτημα 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ικαταστήσ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-transistor network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ένα άλλ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-transistor network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το οποίο θα υπολογίζει την συνάρτηση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(A,B,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ον κόμβ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θέστε ότι έχετε στη διάθεσή σας τις εισόδους Α,Β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τις συμπληρωματικές του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ια πιθανή υλοποίηση είναι η παρακάτ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2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ίνακας αληθε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545080" cy="3728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2924280"/>
            <a:ext cx="25243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3008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ώτημα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ια λογική συνάρτηση υλοποιείται από το κύκλωμ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ταν </a:t>
            </a:r>
            <a:r>
              <a:rPr b="0" lang="el-GR" sz="2000" spc="-1" strike="noStrike">
                <a:solidFill>
                  <a:srgbClr val="666699"/>
                </a:solidFill>
                <a:latin typeface="Arial"/>
              </a:rPr>
              <a:t>Β=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el-GR" sz="2000" spc="-1" strike="noStrike">
                <a:solidFill>
                  <a:srgbClr val="666699"/>
                </a:solidFill>
                <a:latin typeface="Arial"/>
              </a:rPr>
              <a:t>Μ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άγει και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ερνάει το Α στην έξοδ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ταν </a:t>
            </a:r>
            <a:r>
              <a:rPr b="0" lang="el-GR" sz="2000" spc="-1" strike="noStrike">
                <a:solidFill>
                  <a:srgbClr val="666699"/>
                </a:solidFill>
                <a:latin typeface="Arial"/>
              </a:rPr>
              <a:t>Β=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άγει και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ερνάει το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ν έξοδ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ατηρούμε λοιπόν ότι το δικτύωμα με τ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 transistor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λοποιε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ην λογική πράξ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αξύ Α και Β ,άρ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x</a:t>
            </a:r>
            <a:r>
              <a:rPr b="1" lang="el-GR" sz="2800" spc="-1" strike="noStrike">
                <a:solidFill>
                  <a:srgbClr val="666699"/>
                </a:solidFill>
                <a:latin typeface="Arial"/>
              </a:rPr>
              <a:t>  = Α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ND (A,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71296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άρχει όμως και αυτή η διάταξη ,η οποία παίρνει ως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σοδο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x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υλοποιεί τον γνωστό σε όλους μας αντιστροφέ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666699"/>
                </a:solidFill>
                <a:latin typeface="Arial"/>
              </a:rPr>
              <a:t>Αντιστροφέ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έξοδο του κυκλώματος , λοιπόν, έχουμε την υλοποίηση της λογικής συνάρτησης ΝΑ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ταξύ των εισόδων Α και Β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Out = NAND (A,B</a:t>
            </a:r>
            <a:r>
              <a:rPr b="1" lang="en-US" sz="3700" spc="-1" strike="noStrike">
                <a:solidFill>
                  <a:srgbClr val="666699"/>
                </a:solidFill>
                <a:latin typeface="Arial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19159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υγκεκριμένος τρανζίστορ φαίνεται περιττός με τη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πρώτη ματιά.Η παρουσία του, όμως είναι αναγκαία, για ν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εξασφαλίσει ότι η πύλη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te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 είναι στατική . Πρέπει ν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υπάρχει ένα μονοπάτι χαμηλής εμπέδησης για τις γραμμέ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τροφοδοσίας κάτω από όλες τις συνθήκε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(στην περίπτωσή μας, όταν Β είναι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321440" cy="33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Ερώτημα 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Εξηγείστε γιατί το κύκλωμά μας έχει μη-μηδενική στατική    κατανάλωσ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Δυστυχώς τα κυκλώματα με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 transistor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λογική υποφέρουν από στατική κατανάλωση ισχύος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tatic power dissipation )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αι μειωμένα περιθώρια θορύβου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ise margins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Όταν  Α = Β= </a:t>
            </a:r>
            <a:r>
              <a:rPr b="0" lang="en-US" sz="2300" spc="-1" strike="noStrike">
                <a:solidFill>
                  <a:srgbClr val="666699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666699"/>
                </a:solidFill>
                <a:latin typeface="Arial"/>
              </a:rPr>
              <a:t>D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 πάνω τρανζίστορ άγει 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αι  έχουμε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666699"/>
                </a:solidFill>
                <a:latin typeface="Arial"/>
              </a:rPr>
              <a:t>V</a:t>
            </a: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x</a:t>
            </a:r>
            <a:r>
              <a:rPr b="1" lang="en-US" sz="2900" spc="-1" strike="noStrike">
                <a:solidFill>
                  <a:srgbClr val="666699"/>
                </a:solidFill>
                <a:latin typeface="Arial"/>
              </a:rPr>
              <a:t> = V</a:t>
            </a: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DD</a:t>
            </a:r>
            <a:r>
              <a:rPr b="1" lang="en-US" sz="2900" spc="-1" strike="noStrike">
                <a:solidFill>
                  <a:srgbClr val="666699"/>
                </a:solidFill>
                <a:latin typeface="Arial"/>
              </a:rPr>
              <a:t>-V</a:t>
            </a: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t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3960720" cy="28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360" y="404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Η τάση στην είσοδο του αντιστροφέα φτάνει μόνο την τιμή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6699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x</a:t>
            </a:r>
            <a:r>
              <a:rPr b="1" lang="en-US" sz="2300" spc="-1" strike="noStrike">
                <a:solidFill>
                  <a:srgbClr val="666699"/>
                </a:solidFill>
                <a:latin typeface="Arial"/>
              </a:rPr>
              <a:t> = V</a:t>
            </a: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DD</a:t>
            </a:r>
            <a:r>
              <a:rPr b="1" lang="en-US" sz="2300" spc="-1" strike="noStrike">
                <a:solidFill>
                  <a:srgbClr val="666699"/>
                </a:solidFill>
                <a:latin typeface="Arial"/>
              </a:rPr>
              <a:t>-V</a:t>
            </a: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t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Αυτή η τάση προκαλεί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στατική κατανάλωση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 ισχύος στον αντιστροφέα, που οδηγεί το δικτύωμα με τα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105440" cy="29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ώτημα 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ροσθέτοντας μόνο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α σχεδιάσετε ένα κύκλωμα που να λύνει το πρόβλημα της στατικής κατανάλωσης. Εξηγείστε πώς επιλέγετε το μέγεθος το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ροποποιημένο κύκλωμ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 την προσθήκη ενός μόν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το διπλαν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95640" y="2421000"/>
            <a:ext cx="4305240" cy="31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 να λύσουμε το πρόβλημα της πτώσης του επιπέδου τάσης στον κόμβ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ου δείξαμε στο ερώτημα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και κατά συνέπεια να λύσουμε το πρόβλημα της στατικής κατανάλωσης χρησιμοποιούμε μια συνδεσμολογία </a:t>
            </a:r>
            <a:r>
              <a:rPr b="1" lang="el-GR" sz="3200" spc="-1" strike="noStrike">
                <a:solidFill>
                  <a:srgbClr val="666699"/>
                </a:solidFill>
                <a:latin typeface="Arial"/>
              </a:rPr>
              <a:t>ανάδρασης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ε έν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OS transistor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Αυτό 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stor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νομάζεται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level restor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2:39:00Z</dcterms:created>
  <dc:creator>MICHAEL KOURAKHS</dc:creator>
  <dc:description/>
  <dc:language>en-US</dc:language>
  <cp:lastModifiedBy>MICHAEL KOURAKHS</cp:lastModifiedBy>
  <dcterms:modified xsi:type="dcterms:W3CDTF">2005-07-10T18:55:01Z</dcterms:modified>
  <cp:revision>31</cp:revision>
  <dc:subject/>
  <dc:title>Slide 1</dc:title>
</cp:coreProperties>
</file>