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08BF-1B6E-4F24-8DEC-D782C99D9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39B9-EC9E-4DDA-A7B9-B2368AFB9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3C7C-5943-4444-8D19-88A401DF2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4682-B46D-4EDB-B2B3-AD46CD6E3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9ABD6-4CA6-4025-B2D8-49C1BC455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F9476-C110-4A36-8D49-0C2EB800C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6E831-781E-4A85-A6A7-6A42BA3D0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A94E4-D634-4B3F-AA5A-AA486FB53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7D168-8491-4360-BD42-F2DE6989E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77751-AC5D-4502-A8CA-00183E4C7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47F06-592A-42DA-8934-9578AE15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59A1-C0BE-4607-B57B-CF98E9709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97F4D-4576-42DA-95D1-D5864A8C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98626-64DC-42BB-848A-8FC18559A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26AB1-5D48-4273-A155-5C1C36514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C627B-217D-4353-8A51-B601A801B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C05EF-04D4-4C83-A0B1-372BC4AC6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EC12-6A82-4ED5-B3A1-8D4EBA9D1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336B-4735-4C03-9647-4E1F8FC04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6741-BEFE-4BE8-BF8C-445E9B72D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B185-3C99-4EA8-9EFE-5ED2A43C0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99EE-2D97-44EE-BF83-42F631506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7F10-AEAF-416C-9544-A8B51E828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68E7-0A7E-4988-9367-21C21BDEA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F0938-8A95-402E-A316-4DA64097084F}" type="slidenum">
              <a:rPr b="0" lang="el-G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F2D83-D1C9-4136-8D2A-1DB0B7274CF2}" type="slidenum">
              <a:rPr b="0" lang="el-G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l-GR" sz="4400" spc="-1" strike="noStrike">
                <a:solidFill>
                  <a:srgbClr val="ffffcc"/>
                </a:solidFill>
                <a:latin typeface="Tahoma"/>
              </a:rPr>
              <a:t>Λογική με Πύλες Διέλευσης </a:t>
            </a:r>
            <a:br>
              <a:rPr sz="4400"/>
            </a:br>
            <a:r>
              <a:rPr b="0" lang="el-GR" sz="4400" spc="-1" strike="noStrike">
                <a:solidFill>
                  <a:srgbClr val="ffffcc"/>
                </a:solidFill>
                <a:latin typeface="Tahoma"/>
              </a:rPr>
              <a:t>και</a:t>
            </a:r>
            <a:br>
              <a:rPr sz="4400"/>
            </a:br>
            <a:r>
              <a:rPr b="0" lang="el-GR" sz="4400" spc="-1" strike="noStrike">
                <a:solidFill>
                  <a:srgbClr val="ffffcc"/>
                </a:solidFill>
                <a:latin typeface="Tahoma"/>
              </a:rPr>
              <a:t>αποκατάσταση επιπέδου τάσης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 u="sng">
                <a:solidFill>
                  <a:srgbClr val="ffffff"/>
                </a:solidFill>
                <a:uFillTx/>
                <a:latin typeface="Tahoma"/>
              </a:rPr>
              <a:t>Σενάριο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x  = 0 V  , out =V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DD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Mr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είναι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off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 = V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DD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= 0 V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Αν   Α   από   ( 0 </a:t>
            </a:r>
            <a:r>
              <a:rPr b="0" lang="el-GR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DD</a:t>
            </a:r>
            <a:r>
              <a:rPr b="1" lang="el-GR" sz="1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l-GR" sz="20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 Mn1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 φορτίζει το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έως το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DD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-V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t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Αυτή η τιμή είναι αρκετή για να γίνει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witch 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του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ut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 από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DD</a:t>
            </a:r>
            <a:r>
              <a:rPr b="1" lang="el-GR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l-GR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1" lang="el-G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low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Άρα το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Mr</a:t>
            </a:r>
            <a:r>
              <a:rPr b="1" lang="el-G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γίνεται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λόγω ανάδρασης και έτσι «τραβάει» τον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1" lang="el-GR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στο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D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427640" y="1484280"/>
            <a:ext cx="4149720" cy="31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2000"/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2000"/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2000"/>
                                        <p:tgtEl>
                                          <p:spTgt spid="1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Αυτή η τεχνική εξαλείφει το πρόβλημα της στατικής κατανάλωσης ισχύος , αλλά προσθέτει πολυπλοκότητα, γιατί πλέον το κύκλωμα γίνεται </a:t>
            </a: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ratio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δηλαδή πρέπει να αλλάξει το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 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λόγος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W/L) 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των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nsistors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Για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ansition 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του κόμβου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x </a:t>
            </a:r>
            <a:r>
              <a:rPr b="1" lang="el-GR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από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DD</a:t>
            </a:r>
            <a:r>
              <a:rPr b="1" lang="el-GR" sz="1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l-GR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1" lang="el-GR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low</a:t>
            </a:r>
            <a:r>
              <a:rPr b="1" lang="el-GR" sz="20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το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ss-network 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θέλει να «τραβήξει» σε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low</a:t>
            </a:r>
            <a:r>
              <a:rPr b="1" lang="el-GR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τον</a:t>
            </a:r>
            <a:r>
              <a:rPr b="1" lang="el-GR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1" lang="el-GR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l-GR" sz="2000" spc="-1" strike="noStrike">
                <a:solidFill>
                  <a:srgbClr val="ffffcc"/>
                </a:solidFill>
                <a:latin typeface="Tahoma"/>
              </a:rPr>
              <a:t>(</a:t>
            </a: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pull_down</a:t>
            </a:r>
            <a:r>
              <a:rPr b="1" lang="el-GR" sz="2000" spc="-1" strike="noStrike">
                <a:solidFill>
                  <a:srgbClr val="ffffc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ενώ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ο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ransistor 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Mr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 θέλει να τον συγκρατήσει  σε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DD</a:t>
            </a:r>
            <a:r>
              <a:rPr b="1" lang="el-GR" sz="1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l-GR" sz="2000" spc="-1" strike="noStrike">
                <a:solidFill>
                  <a:srgbClr val="ffffcc"/>
                </a:solidFill>
                <a:latin typeface="Tahoma"/>
              </a:rPr>
              <a:t>(</a:t>
            </a: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pull_up</a:t>
            </a:r>
            <a:r>
              <a:rPr b="1" lang="el-GR" sz="2000" spc="-1" strike="noStrike">
                <a:solidFill>
                  <a:srgbClr val="ffffc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340000" y="3141720"/>
            <a:ext cx="4305240" cy="31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ffcc66"/>
                </a:solidFill>
                <a:latin typeface="Tahoma"/>
              </a:rPr>
              <a:t>ΣΥΜΠΕΡΑΣΜΑ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l-GR" sz="4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θέλουμε 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</a:rPr>
              <a:t>stronge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ull-dow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δικτύωμα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(δηλαδή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n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από την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ull-up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devic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δηλαδή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8" dur="2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Γνωρίζοντας τις τιμές των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/L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για τα  Μ1 και Μ2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συμπεραίνουμε ότι ο αντιστροφέας έχει κατώφλι μεταγωγής</a:t>
            </a: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1" lang="en-US" sz="1500" spc="-1" strike="noStrike">
                <a:solidFill>
                  <a:srgbClr val="ffffff"/>
                </a:solidFill>
                <a:latin typeface="Tahoma"/>
              </a:rPr>
              <a:t>D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/2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(μας δίνεται και στην εκφώνηση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 u="sng">
                <a:solidFill>
                  <a:srgbClr val="ffffff"/>
                </a:solidFill>
                <a:uFillTx/>
                <a:latin typeface="Tahoma"/>
              </a:rPr>
              <a:t>Ο τιμή της τάσης του κόμβου   </a:t>
            </a:r>
            <a:r>
              <a:rPr b="1" lang="en-US" sz="3200" spc="-1" strike="noStrike" u="sng">
                <a:solidFill>
                  <a:srgbClr val="ffcc66"/>
                </a:solidFill>
                <a:uFillTx/>
                <a:latin typeface="Tahoma"/>
              </a:rPr>
              <a:t>x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 </a:t>
            </a:r>
            <a:r>
              <a:rPr b="0" lang="el-GR" sz="3200" spc="-1" strike="noStrike" u="sng">
                <a:solidFill>
                  <a:srgbClr val="ffffff"/>
                </a:solidFill>
                <a:uFillTx/>
                <a:latin typeface="Tahoma"/>
              </a:rPr>
              <a:t> , λοιπόν, πρέπει να πέσει κάτω από αυτή την τιμή </a:t>
            </a:r>
            <a:r>
              <a:rPr b="0" lang="el-GR" sz="3200" spc="-1" strike="noStrike" u="sng">
                <a:solidFill>
                  <a:srgbClr val="ffcc66"/>
                </a:solidFill>
                <a:uFillTx/>
                <a:latin typeface="Tahoma"/>
              </a:rPr>
              <a:t>(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Tahoma"/>
              </a:rPr>
              <a:t>V</a:t>
            </a:r>
            <a:r>
              <a:rPr b="1" lang="en-US" sz="1500" spc="-1" strike="noStrike" u="sng">
                <a:solidFill>
                  <a:srgbClr val="ffcc66"/>
                </a:solidFill>
                <a:uFillTx/>
                <a:latin typeface="Tahoma"/>
              </a:rPr>
              <a:t>DD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Tahoma"/>
              </a:rPr>
              <a:t>/2</a:t>
            </a:r>
            <a:r>
              <a:rPr b="0" lang="el-GR" sz="3200" spc="-1" strike="noStrike" u="sng">
                <a:solidFill>
                  <a:srgbClr val="ffcc66"/>
                </a:solidFill>
                <a:uFillTx/>
                <a:latin typeface="Tahoma"/>
              </a:rPr>
              <a:t>)</a:t>
            </a:r>
            <a:r>
              <a:rPr b="0" lang="el-GR" sz="3200" spc="-1" strike="noStrike" u="sng">
                <a:solidFill>
                  <a:srgbClr val="ffffff"/>
                </a:solidFill>
                <a:uFillTx/>
                <a:latin typeface="Tahoma"/>
              </a:rPr>
              <a:t> για να γίνει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witch </a:t>
            </a:r>
            <a:r>
              <a:rPr b="0" lang="el-GR" sz="3200" spc="-1" strike="noStrike" u="sng">
                <a:solidFill>
                  <a:srgbClr val="ffffff"/>
                </a:solidFill>
                <a:uFillTx/>
                <a:latin typeface="Tahoma"/>
              </a:rPr>
              <a:t>στον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inverter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Wingdings"/>
                <a:ea typeface="Wingdings"/>
              </a:rPr>
              <a:t>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    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</a:rPr>
              <a:t>Mr     </a:t>
            </a:r>
            <a:r>
              <a:rPr b="1" lang="en-US" sz="3200" spc="-1" strike="noStrike" u="sng">
                <a:solidFill>
                  <a:srgbClr val="ffcc66"/>
                </a:solidFill>
                <a:uFillTx/>
                <a:latin typeface="Tahoma"/>
              </a:rPr>
              <a:t>shut-of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Χρησιμοποιώντας  την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ransient response 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του κόμβου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συναρτήσει του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ze 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του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evel restorer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Mr) 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με τα (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/L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των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ransistor 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Μ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1 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και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Mn2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  σταθερά σε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0.5μ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/0.25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μ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) , 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έχουμε τα εξής αποτελέσματα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71600" y="271440"/>
            <a:ext cx="8202600" cy="63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Για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ti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W/L)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Mr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&gt;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(1.5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μ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/0.25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μ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ο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l-GR" sz="2800" spc="-1" strike="noStrike" u="sng">
                <a:solidFill>
                  <a:srgbClr val="ffcc66"/>
                </a:solidFill>
                <a:uFillTx/>
                <a:latin typeface="Tahoma"/>
              </a:rPr>
              <a:t>δεν μπορεί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 να περάσει το κατώφλι μεταγωγής (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witching threshold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του αντιστροφέα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l-GR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δεν γίνεται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witch 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στην έξοδο  </a:t>
            </a:r>
            <a:r>
              <a:rPr b="0" lang="el-GR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l-GR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l-GR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l-GR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l-GR" sz="3600" spc="-1" strike="noStrike">
                <a:solidFill>
                  <a:srgbClr val="ffffcc"/>
                </a:solidFill>
                <a:latin typeface="Tahoma"/>
              </a:rPr>
              <a:t>ΠΡΟΒΛΗΜΑ</a:t>
            </a:r>
            <a:r>
              <a:rPr b="0" lang="el-GR" sz="36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4" dur="20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4" dur="20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Ερώτημα 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Υλοποιήστε το ίδιο κύκλωμα (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ss-transistor network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με την χρήση πυλών διέλευσης (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ansmission gates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411280" y="2565360"/>
            <a:ext cx="424836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Αυτή είναι η πιο διαδεδομένη λύση για το πρόβλημα του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oltage-drop ,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το οποίο μας οδηγεί σε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ic power dissip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Η κατασκευή λογικών κυκλωμάτων με τη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χρήση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nsmission gates 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εκμεταλλεύεται τις ιδιότητες των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MOS 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και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M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l-GR" sz="3200" spc="-1" strike="noStrike">
                <a:solidFill>
                  <a:srgbClr val="ffcc66"/>
                </a:solidFill>
                <a:latin typeface="Tahoma"/>
              </a:rPr>
              <a:t>ΝΜΟ</a:t>
            </a: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S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 περνάνε δυνατό 0, αλλά 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αδύναμο 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PMOS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 περνάνε δυνατό 1, αλλά 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αδύναμο 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98900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Άρα, λοιπόν, χρησιμοποιούμε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MOS 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για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ull-down 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και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MOS 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για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ull-u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Όπως γνωρίζουμε μια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nsmission gate 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αποτελείται από ένα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MOS 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και ένα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M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παράλληλα συνδεδεμέν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0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Έχουμε το παρακάτω κύκλωμα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Μας δίνονται οδηγίες να υποθέσουμε ότι ο αντιστροφέας έχει ιδανική μεταγωγή σε επίπεδο τάσης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D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/2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, να μην λάβουμε υπόψιν μας το φαινόμενο σώματος ,την διαμόρφωση του μήκους καναλιού και όλων των παρασιτικών χωρητικοτήτω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3887640" cy="29829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003640" y="1557360"/>
            <a:ext cx="3672000" cy="237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Ερώτημα 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Αντικαταστήστε το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ss-transistor network 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με ένα άλλο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ss-transistor network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, το οποίο θα υπολογίζει την συνάρτηση  </a:t>
            </a: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AND (A,B,C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στον κόμβο </a:t>
            </a: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ποθέστε ότι έχετε στη διάθεσή σας τις εισόδους Α,Β,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 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και τις συμπληρωματικές τους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l-GR" sz="3200" spc="-1" strike="noStrike">
                <a:solidFill>
                  <a:srgbClr val="ffffcc"/>
                </a:solidFill>
                <a:latin typeface="Tahoma"/>
              </a:rPr>
              <a:t>Μια πιθανή υλοποίηση είναι η παρακάτω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5" dur="20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9" dur="2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Πίνακας αληθεία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5545080" cy="37288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084720" y="2924280"/>
            <a:ext cx="252432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30088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Ερώτημα 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Ποια λογική συνάρτηση υλοποιείται από το κύκλωμα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l-GR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l-GR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l-GR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l-GR" sz="1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l-GR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l-GR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l-GR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l-GR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Όταν </a:t>
            </a:r>
            <a:r>
              <a:rPr b="0" lang="el-GR" sz="2000" spc="-1" strike="noStrike">
                <a:solidFill>
                  <a:srgbClr val="ffcc66"/>
                </a:solidFill>
                <a:latin typeface="Tahoma"/>
              </a:rPr>
              <a:t>Β=</a:t>
            </a: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high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o </a:t>
            </a:r>
            <a:r>
              <a:rPr b="0" lang="el-GR" sz="2000" spc="-1" strike="noStrike">
                <a:solidFill>
                  <a:srgbClr val="ffcc66"/>
                </a:solidFill>
                <a:latin typeface="Tahoma"/>
              </a:rPr>
              <a:t>Μ</a:t>
            </a: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n1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άγει και 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 περνάει το Α στην έξοδο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Όταν </a:t>
            </a:r>
            <a:r>
              <a:rPr b="0" lang="el-GR" sz="2000" spc="-1" strike="noStrike">
                <a:solidFill>
                  <a:srgbClr val="ffcc66"/>
                </a:solidFill>
                <a:latin typeface="Tahoma"/>
              </a:rPr>
              <a:t>Β=</a:t>
            </a: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low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o </a:t>
            </a: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Mn2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άγει και 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 περνάει το 0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ND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στην έξοδο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Παρατηρούμε λοιπόν ότι το δικτύωμα με τα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ss transistors 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υλοποιεί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την λογική πράξη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ND 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μεταξύ Α και Β ,άρα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l-GR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l-GR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ahoma"/>
              </a:rPr>
              <a:t>x</a:t>
            </a:r>
            <a:r>
              <a:rPr b="1" lang="el-GR" sz="2800" spc="-1" strike="noStrike">
                <a:solidFill>
                  <a:srgbClr val="ffcc66"/>
                </a:solidFill>
                <a:latin typeface="Tahoma"/>
              </a:rPr>
              <a:t>  = Α</a:t>
            </a:r>
            <a:r>
              <a:rPr b="1" lang="en-US" sz="2800" spc="-1" strike="noStrike">
                <a:solidFill>
                  <a:srgbClr val="ffcc66"/>
                </a:solidFill>
                <a:latin typeface="Tahoma"/>
              </a:rPr>
              <a:t>ND (A,B)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2712960" cy="309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Υπάρχει όμως και αυτή η διάταξη ,η οποία παίρνει ως 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είσοδο το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cc66"/>
                </a:solidFill>
                <a:latin typeface="Tahoma"/>
              </a:rPr>
              <a:t>x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και υλοποιεί τον γνωστό σε όλους μας αντιστροφέα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l-GR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l-GR" sz="2400" spc="-1" strike="noStrike">
                <a:solidFill>
                  <a:srgbClr val="ffcc66"/>
                </a:solidFill>
                <a:latin typeface="Tahoma"/>
              </a:rPr>
              <a:t>Αντιστροφέα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Στην έξοδο του κυκλώματος , λοιπόν, έχουμε την υλοποίηση της λογικής συνάρτησης ΝΑΝ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 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μεταξύ των εισόδων Α και Β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ahoma"/>
              </a:rPr>
              <a:t>Out = NAND (A,B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1915920" cy="28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Ο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συγκεκριμένος τρανζίστορ φαίνεται περιττός με τη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πρώτη ματιά.Η παρουσία του, όμως είναι αναγκαία, για ν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εξασφαλίσει ότι η πύλη (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ate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) είναι στατική . Πρέπει ν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υπάρχει ένα μονοπάτι χαμηλής εμπέδησης για τις γραμμέ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τροφοδοσίας κάτω από όλες τις συνθήκε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(στην περίπτωσή μας, όταν Β είναι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w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268360" y="549360"/>
            <a:ext cx="4321440" cy="331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Ερώτημα 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Εξηγείστε γιατί το κύκλωμά μας έχει μη-μηδενική στατική    κατανάλωση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Δυστυχώς τα κυκλώματα με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ss transistor 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λογική υποφέρουν από στατική κατανάλωση ισχύος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static power dissipation ) 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και μειωμένα περιθώρια θορύβου (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ise margins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Όταν  Α = Β= </a:t>
            </a:r>
            <a:r>
              <a:rPr b="0" lang="en-US" sz="2400" spc="-1" strike="noStrike">
                <a:solidFill>
                  <a:srgbClr val="ffcc66"/>
                </a:solidFill>
                <a:latin typeface="Tahoma"/>
              </a:rPr>
              <a:t>V</a:t>
            </a:r>
            <a:r>
              <a:rPr b="1" lang="en-US" sz="1200" spc="-1" strike="noStrike">
                <a:solidFill>
                  <a:srgbClr val="ffcc66"/>
                </a:solidFill>
                <a:latin typeface="Tahoma"/>
              </a:rPr>
              <a:t>DD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ο πάνω τρανζίστορ άγει  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και  έχουμ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ahoma"/>
              </a:rPr>
              <a:t>V</a:t>
            </a:r>
            <a:r>
              <a:rPr b="1" lang="en-US" sz="1600" spc="-1" strike="noStrike">
                <a:solidFill>
                  <a:srgbClr val="ffcc66"/>
                </a:solidFill>
                <a:latin typeface="Tahoma"/>
              </a:rPr>
              <a:t>x</a:t>
            </a:r>
            <a:r>
              <a:rPr b="1" lang="en-US" sz="2800" spc="-1" strike="noStrike">
                <a:solidFill>
                  <a:srgbClr val="ffcc66"/>
                </a:solidFill>
                <a:latin typeface="Tahoma"/>
              </a:rPr>
              <a:t> = V</a:t>
            </a:r>
            <a:r>
              <a:rPr b="1" lang="en-US" sz="1600" spc="-1" strike="noStrike">
                <a:solidFill>
                  <a:srgbClr val="ffcc66"/>
                </a:solidFill>
                <a:latin typeface="Tahoma"/>
              </a:rPr>
              <a:t>DD</a:t>
            </a:r>
            <a:r>
              <a:rPr b="1" lang="en-US" sz="2800" spc="-1" strike="noStrike">
                <a:solidFill>
                  <a:srgbClr val="ffcc66"/>
                </a:solidFill>
                <a:latin typeface="Tahoma"/>
              </a:rPr>
              <a:t>-V</a:t>
            </a:r>
            <a:r>
              <a:rPr b="1" lang="en-US" sz="1600" spc="-1" strike="noStrike">
                <a:solidFill>
                  <a:srgbClr val="ffcc66"/>
                </a:solidFill>
                <a:latin typeface="Tahoma"/>
              </a:rPr>
              <a:t>t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55640" y="3500280"/>
            <a:ext cx="3960720" cy="286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40464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Η τάση στην είσοδο του αντιστροφέα φτάνει μόνο την τιμή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ahoma"/>
              </a:rPr>
              <a:t>V</a:t>
            </a:r>
            <a:r>
              <a:rPr b="1" lang="en-US" sz="1400" spc="-1" strike="noStrike">
                <a:solidFill>
                  <a:srgbClr val="ffcc66"/>
                </a:solidFill>
                <a:latin typeface="Tahoma"/>
              </a:rPr>
              <a:t>x</a:t>
            </a:r>
            <a:r>
              <a:rPr b="1" lang="en-US" sz="2400" spc="-1" strike="noStrike">
                <a:solidFill>
                  <a:srgbClr val="ffcc66"/>
                </a:solidFill>
                <a:latin typeface="Tahoma"/>
              </a:rPr>
              <a:t> = V</a:t>
            </a:r>
            <a:r>
              <a:rPr b="1" lang="en-US" sz="1400" spc="-1" strike="noStrike">
                <a:solidFill>
                  <a:srgbClr val="ffcc66"/>
                </a:solidFill>
                <a:latin typeface="Tahoma"/>
              </a:rPr>
              <a:t>DD</a:t>
            </a:r>
            <a:r>
              <a:rPr b="1" lang="en-US" sz="2400" spc="-1" strike="noStrike">
                <a:solidFill>
                  <a:srgbClr val="ffcc66"/>
                </a:solidFill>
                <a:latin typeface="Tahoma"/>
              </a:rPr>
              <a:t>-V</a:t>
            </a:r>
            <a:r>
              <a:rPr b="1" lang="en-US" sz="1400" spc="-1" strike="noStrike">
                <a:solidFill>
                  <a:srgbClr val="ffcc66"/>
                </a:solidFill>
                <a:latin typeface="Tahoma"/>
              </a:rPr>
              <a:t>t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Αυτή η τάση προκαλεί </a:t>
            </a:r>
            <a:r>
              <a:rPr b="0" lang="el-GR" sz="2400" spc="-1" strike="noStrike">
                <a:solidFill>
                  <a:srgbClr val="ffffcc"/>
                </a:solidFill>
                <a:latin typeface="Tahoma"/>
              </a:rPr>
              <a:t>στατική κατανάλωση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 ισχύος στον αντιστροφέα, που οδηγεί το δικτύωμα με τα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ss transistors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484360" y="620640"/>
            <a:ext cx="4105440" cy="297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6" dur="2000" fill="hold"/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Ερώτημα Γ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Προσθέτοντας μόνο 1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ransistor 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να σχεδιάσετε ένα κύκλωμα που να λύνει το πρόβλημα της στατικής κατανάλωσης. Εξηγείστε πώς επιλέγετε το μέγεθος του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ransisto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o 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τροποποιημένο κύκλωμα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με την προσθήκη ενός μόνο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ransistor 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</a:rPr>
              <a:t>είναι το διπλανό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995640" y="2421000"/>
            <a:ext cx="4305240" cy="317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Για να λύσουμε το πρόβλημα της πτώσης του επιπέδου τάσης στον κόμβο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που δείξαμε στο ερώτημα 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 και κατά συνέπεια να λύσουμε το πρόβλημα της στατικής κατανάλωσης χρησιμοποιούμε μια συνδεσμολογία </a:t>
            </a:r>
            <a:r>
              <a:rPr b="1" lang="el-GR" sz="3200" spc="-1" strike="noStrike">
                <a:solidFill>
                  <a:srgbClr val="ffcc66"/>
                </a:solidFill>
                <a:latin typeface="Tahoma"/>
              </a:rPr>
              <a:t>ανάδρασης</a:t>
            </a:r>
            <a:r>
              <a:rPr b="1" lang="el-GR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με ένα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MOS transistor </a:t>
            </a:r>
            <a:r>
              <a:rPr b="1" lang="el-GR" sz="32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 Αυτό το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nsistor 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ονομάζεται </a:t>
            </a: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level restorer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8T12:39:00Z</dcterms:created>
  <dc:creator>MICHAEL KOURAKHS</dc:creator>
  <dc:description/>
  <dc:language>en-US</dc:language>
  <cp:lastModifiedBy>MICHAEL KOURAKHS</cp:lastModifiedBy>
  <dcterms:modified xsi:type="dcterms:W3CDTF">2005-07-10T17:41:58Z</dcterms:modified>
  <cp:revision>29</cp:revision>
  <dc:subject/>
  <dc:title>Slide 1</dc:title>
</cp:coreProperties>
</file>