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0F2-7612-4635-B6F4-456FAC6A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45E-AC2A-4DB7-B5A0-8031287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AFF-E1B5-4EF8-B003-808D48AD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6BE-0E2B-4E64-8E22-8540B0E1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B457-517B-459A-8437-FF547FDC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C13-03EB-4B8E-8C46-89D5823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B74-5C10-4108-AC65-96E19B7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7E80-ECBD-4E26-9165-BE99DBC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190-9E64-49C9-B1EC-F2401E0E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D01-A23D-42D6-A315-F88F394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0463-9E1B-4AF2-B7FC-B31C029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64F-7DB9-4630-B8CB-EB4ACE2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C04D-4C5E-48E2-91CC-21F4327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6CD3-5DCE-4402-9ECE-79A1AD3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D240-351D-414D-9A6F-B5FDE608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C5E4-2784-4F50-A7F0-095E95BE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DB00-8730-4BB8-A8B3-02F8C0BA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702-9837-4AF7-B1E6-5B1BE16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9B7-660F-4E44-8DF2-F2618D8A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F1B-884A-4EF9-AC10-071C880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95A-D344-4FFC-8086-EE74454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0E1-AE9A-4824-917C-3366F44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5D1-6D5D-402E-BC96-A821F9C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B87-6288-4F39-B0A4-02B2748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698-91C4-4259-929B-02F4662F8D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07D-B8C9-48B7-B30C-3A8FC8C7E5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Arial"/>
              </a:rPr>
              <a:t>Chapter 6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Arial"/>
              </a:rPr>
              <a:t>Dynamic CMOS Design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 Πρόβλημα 19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rge Sha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52880" y="798480"/>
          <a:ext cx="419112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798480"/>
                    <a:ext cx="419112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Προφόρτιση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UT=Vdd, A=B=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Υπολογισμός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=0, A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0-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σε-1 μετάβαση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Επανακατανομή φορτίου στους πυκνωτές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, C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Πτώση τάσης εξόδου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(Mp 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σε αποκοπή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8120" y="685440"/>
            <a:ext cx="0" cy="152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2 Πιθανά Σενάρια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2819520"/>
          <a:ext cx="73152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19520"/>
                    <a:ext cx="7315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676520" y="5562720"/>
          <a:ext cx="350496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562720"/>
                    <a:ext cx="35049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143000" y="1600200"/>
          <a:ext cx="4876920" cy="110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600200"/>
                    <a:ext cx="487692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143000" y="4267080"/>
          <a:ext cx="502920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267080"/>
                    <a:ext cx="50292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Πρόβλημα 19:</a:t>
            </a:r>
            <a:br>
              <a:rPr sz="4400"/>
            </a:b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Σχεδιασμός κυματομορφών στα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x, y, z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22960" y="1295280"/>
          <a:ext cx="382104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2960" y="1295280"/>
                    <a:ext cx="382104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838080" y="2743200"/>
          <a:ext cx="426744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43200"/>
                    <a:ext cx="42674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ΛΥΣΗ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609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Αρχικά:               Χ=2.5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=Z=2.5-Vt =2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Φ=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High”  =&gt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,Z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εκφορτίζοντα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μέσω των Μ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,M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3581280"/>
          <a:ext cx="342900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581280"/>
                    <a:ext cx="34290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648320" y="0"/>
          <a:ext cx="449568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0"/>
                    <a:ext cx="4495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ΛΥΣΗ (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2</a:t>
            </a: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4572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=“Low”  =&gt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απομόνωση του κόμβου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Φ=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Low”  =&gt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κόμβος εξόδου πλήρως φορτισμένο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charge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4267080"/>
          <a:ext cx="36576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26708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00600" y="228600"/>
          <a:ext cx="4343400" cy="640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8600"/>
                    <a:ext cx="4343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ΛΥΣΗ (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3</a:t>
            </a: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3810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valuation phas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=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μετάβαση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0-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σε1 =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”charge sharing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Υπολογισμός πτώσης τάσης εξόδου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se 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3657600"/>
          <a:ext cx="236232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23623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838080" y="4572000"/>
          <a:ext cx="411480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572000"/>
                    <a:ext cx="41148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100480" y="380880"/>
          <a:ext cx="4043520" cy="624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0480" y="380880"/>
                    <a:ext cx="404352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ΛΥΣΗ (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4</a:t>
            </a: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3810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se 1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Φόρτιση του κόμβου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Y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μέσω του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 </a:t>
            </a:r>
            <a:r>
              <a:rPr b="0" lang="el-GR" sz="2800" spc="-1" strike="noStrike">
                <a:solidFill>
                  <a:srgbClr val="eaeaea"/>
                </a:solidFill>
                <a:latin typeface="Arial"/>
              </a:rPr>
              <a:t>στην τιμή 2.5-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 =2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762120"/>
          <a:ext cx="4419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4419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90720" y="3352680"/>
          <a:ext cx="3962160" cy="335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39621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34120" y="609480"/>
          <a:ext cx="3809880" cy="609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609480"/>
                    <a:ext cx="38098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ΛΥΣΗ (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5</a:t>
            </a:r>
            <a:r>
              <a:rPr b="0" lang="el-GR" sz="44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charge phase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Προφόρτιση του κόμβου εξόδου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στα 2.5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Φόρτιση του κόμβου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 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στα 2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Ο κόμβος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 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συνεχίζει να είναι αποκομμένος (Β=0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lang="el-G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4191120"/>
          <a:ext cx="35049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91120"/>
                    <a:ext cx="35049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724280" y="304920"/>
          <a:ext cx="426744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920"/>
                    <a:ext cx="42674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5:46:05Z</dcterms:created>
  <dc:creator>Markos</dc:creator>
  <dc:description/>
  <dc:language>en-US</dc:language>
  <cp:lastModifiedBy>Markos</cp:lastModifiedBy>
  <dcterms:modified xsi:type="dcterms:W3CDTF">2005-07-11T05:31:26Z</dcterms:modified>
  <cp:revision>7</cp:revision>
  <dc:subject/>
  <dc:title>Chapter 6 Dynamic CMOS Design     Πρόβλημα 19</dc:title>
</cp:coreProperties>
</file>