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2AA-7821-47D9-967E-93EF577D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0CD-4FEB-4EAD-8900-6318ED14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0D2-6EF3-40BD-9B53-3CB24566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E70-F375-47E1-94EA-4B338ABF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305-278B-4F0E-B703-DE499DA4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0BB-CE6B-413F-A1F9-84D74A35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0A0-AA16-4639-83F7-15D1C59F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F55-1D1D-414B-A5D9-4017297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586-039A-47F2-A488-37667EB9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91C-3AFB-4110-868D-800BA1D6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FC7-C480-45E5-9334-E7D03D9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963-C73D-4D09-95BF-6740E164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0296-A887-413D-B545-51A3144B86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808000"/>
                </a:solidFill>
                <a:latin typeface="Times New Roman"/>
              </a:rPr>
              <a:t>Τεχνολογία Προηγμένων Ψηφιακών Κυκλωμάτων &amp; Συστημάτων</a:t>
            </a:r>
            <a:r>
              <a:rPr b="0" lang="it-IT" sz="4000" spc="-1" strike="noStrike">
                <a:solidFill>
                  <a:srgbClr val="808000"/>
                </a:solidFill>
                <a:latin typeface="Times New Roman"/>
              </a:rPr>
              <a:t> 20</a:t>
            </a: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05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ργασία 2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Πρόβλημα 6-23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b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olution 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 baseline="-30000">
                <a:solidFill>
                  <a:srgbClr val="808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y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Gate1=high ,  F=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Gate2=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cycl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Gate1=low ,  F=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Gate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51280" y="1981080"/>
            <a:ext cx="5041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olution 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 baseline="-30000">
                <a:solidFill>
                  <a:srgbClr val="808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παράδειγμα α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χ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στο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ύκλ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 μια μετάβαση σ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V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 στο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2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ύκλ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θα προκαλέσει τ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ίρασμα του φορτίου στη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ξοδο της πύλης 2 στι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ασιτικές χωρητικότητε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rai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hu-HU" sz="20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ρανζίστο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103640" y="1628640"/>
            <a:ext cx="5040360" cy="4896000"/>
            <a:chOff x="4103640" y="1628640"/>
            <a:chExt cx="5040360" cy="4896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4103640" y="1628640"/>
              <a:ext cx="50403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4103640" y="1628640"/>
              <a:ext cx="504036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916360" y="49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808000"/>
                </a:solidFill>
                <a:latin typeface="Times New Roman"/>
              </a:rPr>
              <a:t>Sp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495680" cy="50846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4648320" y="1557360"/>
            <a:ext cx="4495680" cy="5300640"/>
            <a:chOff x="4648320" y="1557360"/>
            <a:chExt cx="4495680" cy="530064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648320" y="1557360"/>
              <a:ext cx="449568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4648320" y="1557360"/>
              <a:ext cx="4495680" cy="53006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Φοιτητής: Πολυχρονόπουλος Ανδρέα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ΑΜ: 47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Πρόβλημα 6-23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gure 6.16 shows a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MOS circuit in domino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termining  source and drain areas and perimeters, you may use the following approximations AD=AS=W*0.625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and PD=PS=W+1.25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0.1ns rise/fall times for all inputs, including the c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thermore, you may assume that all the inputs and their complements are available, and that all inputs change during the precharge phase of the clock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Figure 6.16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Question</a:t>
            </a: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What Boolean functions are implemented at outputs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re interpret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two-bit binary words,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, then what interpretation can be applied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808000"/>
                </a:solidFill>
                <a:latin typeface="Times New Roman"/>
              </a:rPr>
              <a:t>Solution 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A</a:t>
            </a:r>
            <a:r>
              <a:rPr b="0" lang="en-US" sz="4400" spc="-1" strike="noStrike" baseline="-30000">
                <a:solidFill>
                  <a:srgbClr val="808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F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211640" y="1628640"/>
            <a:ext cx="4608360" cy="4967280"/>
            <a:chOff x="4211640" y="1628640"/>
            <a:chExt cx="4608360" cy="49672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4211640" y="1628640"/>
              <a:ext cx="460836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4211640" y="1628640"/>
              <a:ext cx="4608360" cy="496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68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393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220500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49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4800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808000"/>
                </a:solidFill>
                <a:latin typeface="Times New Roman"/>
              </a:rPr>
              <a:t>Solution</a:t>
            </a: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A</a:t>
            </a:r>
            <a:r>
              <a:rPr b="0" lang="en-US" sz="4400" spc="-1" strike="noStrike" baseline="-30000">
                <a:solidFill>
                  <a:srgbClr val="808000"/>
                </a:solidFill>
                <a:latin typeface="Times New Roman"/>
                <a:ea typeface="Times New Roman"/>
              </a:rPr>
              <a:t>2</a:t>
            </a: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 θεωρήσουμε ως είσοδο τα Α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ότε η έξοδο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1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ν Α=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 Α=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) =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= 1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ια συσκευή σύγκρισης των εισόδων Α ,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47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7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47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Question </a:t>
            </a: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 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PS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NewRomanPSMT"/>
              </a:rPr>
              <a:t>Which gate (1 or 2) has the highest potential for harmful charge sharing and why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NewRomanPS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PS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NewRomanPSMT"/>
              </a:rPr>
              <a:t>What sequence of inputs (spanning two clock cycles) results in th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NewRomanPSMT"/>
              </a:rPr>
              <a:t>worst-case charge-sharing scenario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NewRomanPS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olution 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 baseline="-30000">
                <a:solidFill>
                  <a:srgbClr val="808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3809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ύλη 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 «υποφέρε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σσότερο σε μια υπερφόρτωσ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ότι το φορτίο μοιράζεται σ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γαλύτερη χωρητικότητα από ότ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ύλη 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ύλη 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α τρανζίστο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χουν διπλάσιο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ό ότι στη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ύλη 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Οπότ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παρασιτική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ωρητικότη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ης πύλης 2 θα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περίπου διπλάσια απ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ότι στην πύλη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140360" y="1628640"/>
            <a:ext cx="4608360" cy="5040360"/>
            <a:chOff x="4140360" y="1628640"/>
            <a:chExt cx="4608360" cy="504036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4140360" y="1628640"/>
              <a:ext cx="460836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4140360" y="1628640"/>
              <a:ext cx="4608360" cy="50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olution  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 baseline="-30000">
                <a:solidFill>
                  <a:srgbClr val="808000"/>
                </a:solidFill>
                <a:latin typeface="Times New Roman"/>
                <a:ea typeface="Times New Roman"/>
              </a:rPr>
              <a:t>1</a:t>
            </a:r>
            <a:r>
              <a:rPr b="0" lang="el-GR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κάθε τρανζίστορ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=AS=W*0.62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0.625μ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  ,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=PS=W+1.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2.25μ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 παρασιτική χωρητικότη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κάθε τρανζίστο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=AS=W*0.62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25μ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=PS=W+1.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25μ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ίπ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0T09:33:29Z</dcterms:created>
  <dc:creator>POLY</dc:creator>
  <dc:description/>
  <dc:language>en-US</dc:language>
  <cp:lastModifiedBy>POLY</cp:lastModifiedBy>
  <dcterms:modified xsi:type="dcterms:W3CDTF">2005-07-10T23:07:33Z</dcterms:modified>
  <cp:revision>47</cp:revision>
  <dc:subject/>
  <dc:title>Τεχνολογία Προηγμένων Ψηφιακών Κυκλωμάτων &amp; Συστημάτων 2005</dc:title>
</cp:coreProperties>
</file>