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9372-B84B-4D8A-AA3C-2BCA3590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C422-3DCE-4150-A0B6-60933C8E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FF4F-1424-48F1-84A1-D997AB97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E7BC1-5E16-418B-B967-098CF954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DD7E-53D0-4C85-AC56-C9D6D62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70EB-BA92-4167-8D2F-ABED9CDF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9B0-E32E-4DAB-A7D3-5D298800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0875-6B18-47A3-B483-8DC44AF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3E47-88CE-4DE7-A001-65A04372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BFEA-A1A6-44CA-B8BF-B85E8CC3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04F2-7C6B-457B-8D43-0D17245F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31C8C-A64D-4456-8004-C0DA04D0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584A-D2F8-407E-9E9A-2877DDB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BFB-AAFB-40A0-A2D1-9B683B97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F1F0-6A59-4459-B105-3A6BF044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429F-B7B8-4E24-BDB8-8748DCA5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ED1F-BF77-4DB9-9410-00431AD3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09ED-E52D-462E-95CB-578DB64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7624-CA19-4DC0-B30F-A18DCF67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43BE-9228-4FAA-9481-CC53BEA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C9E8-5FCB-4397-960D-02B39515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CF77-CC6D-4E08-A52B-600AA717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EF88-3955-46EF-B192-4B16855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3DE5-2B7E-4FBC-A709-D7BC89E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55E-353A-434B-A09F-20B135FF78D9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3509-EBD4-4BAA-97A4-F093C6D41F12}" type="slidenum">
              <a:rPr b="0" lang="el-G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e5e5ff"/>
                </a:solidFill>
                <a:latin typeface="Garamond"/>
              </a:rPr>
              <a:t>Άσκηση 6.25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Ζαφειρόπουλος Κων/νος  ΑΜ 47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Εξομοιώστε το παραπάνω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ayout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 και βρείτε το χειρότερο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pHL</a:t>
            </a: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Χρησιμοποιώντας το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icrowind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σχεδιάσαμε το παραπάνω κύκλωμα σε τεχνολογία 9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Εξαιτίας της μεγαλύτερης αντίστασης και χωρητικότητας που εμφανίζει το μονοπάτι των Β κα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τρανζίστορ, ο χρόνος που απαιτείται για να εκφορτιστεί το κύκλωμα μέσω του μονοπατιού αυτού είναι μεγαλύτερος από  το χρόνο που απαιτείται μέσα από το μονοπάτι του τρανζίστορ Α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Ο χρόνος που απαιτείται για την μετάβαση της εξόδου από την χαμηλή στην υψηλή στάθμη είναι πρακτικά ο ίδιος, αφού για την μετάβαση αυτή υπεύθυνο είναι το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Mos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τμήμα του κυκλώμτος, το οποίο δεν αλλάζει για τις μεταβάσεις και τις περιπτώσεις που εξετάζουμ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6768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236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e5e5ff"/>
                </a:solidFill>
                <a:latin typeface="Garamond"/>
              </a:rPr>
              <a:t>Σχεδιάστε το κύκλωμα σε επίπεδο τρανζίστορ. Ποιο είναι το μέγεθος που έχει κάθε ένα από αυτά?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9280" y="1341360"/>
            <a:ext cx="428148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00720" y="1341360"/>
            <a:ext cx="46432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Σε ποια λογική οικογένεια ανήκει και ποια συνάρτηση υλοποιεί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Το συγκεκριμένο κύκλωμα ανήκει στην κατηγορία τη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tioed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λογικής και υλοποιεί την συνάρτησ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Ποια πλεονεκτήματα και ποια μειονεκτήματα έχει σε σχέση με την συμπληρωματική λογική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Μειωμένος αριθμός των τρανζίστορ (Ν+1 σε αντίθεση με τα 2Ν που απαιτεί η συμπληρωματική λογική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Μειωμένα περιθώρια θορύβου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Αυξημένη κατανάλωση ισχύος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Vdd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ενώ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&gt; 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Ρυθμίζοντας το μεγέθος της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seudo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MOS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πύλης σε σχέση με αυτών των τρανζίστορ του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l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wn network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, μπορούμε να βρούμε την χρυσή τομή μεταξύ καθυστέρησης, κατανάλωσης και περιθωρίων θορύβου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223200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Υπολογίστε τα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OH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  και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OL 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για την χειρότερη περίπτωση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Vdd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επειδή το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l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wn network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είναι ανενεργό για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in = 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Για τον υπολογισμό του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εξισώνουμε τα ρεύματα που προκύπτουν όταν άγουν και τα 2 μονοπάτια (αυτό του Ρ τμήματος και αυτό του Ν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Η χειρότερη περίπτωση για το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πρόκυπτει όταν άγει μόνο ένα από τα 2 τμήματα του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l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wn network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Για να βρούμε ποιο απο τα δυο μονοπάτια εμφανίζει  την μεγαλύτερη αντίσταση (άρα και η χειρότερη περίπτωση για το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), αρκεί να συγκρίνουμε την αντιστασή τους σε επίπεδο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yout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ο τρανζίστορ Α εμφανίζει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/8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= 0.25λ  αντίσταση για το ρεύμα, ενώ το εν σειρά τμήμα για τα τρανζίστορ Β και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εμφανίζει αντίσταση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/12 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=  0.33λ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Επομένως η χειρότερη περίπτωση για το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OL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προκύπτει όταν άγει μόνο το μονοπάτι των Β και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0" lang="el-GR" sz="2400" spc="-1" strike="noStrike">
                <a:solidFill>
                  <a:srgbClr val="ffffff"/>
                </a:solidFill>
                <a:latin typeface="Garamond"/>
              </a:rPr>
              <a:t> τρανζίστο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785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Σε αυτή την κατάσταση όπου η έξοδος είναι σε πολύ χαμηλή τιμή (ιδανικά ίση με 0) το Ρ τρανζίστορ είναι σε κατάσταση κόρου, και τα Ν τρανζίστορ λειτουργούν στο τμήμα της τριόδο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Το ρεύμα που ρέει από το Ρ τρανζίστορ είναι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Για τον υπολογισμό του ρεύματος στο Ν τμήμα κάνουμε τα εξής: Έστω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x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η τάση μεταξύ των Β κα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τρανζίστορ. Τότε επειδή από τα δυο τρανζίστορ περνάει το ίδιο ρεύμα έχουμ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4464000" cy="493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8360" y="4221000"/>
            <a:ext cx="3887640" cy="489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8360" y="4797360"/>
            <a:ext cx="6335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e5e5ff"/>
                </a:solidFill>
                <a:latin typeface="Garamond"/>
              </a:rPr>
              <a:t>Εξισώνοτας τα ρεύματα του Ρ τρανζίστορ και αυτό του Β έχουμε: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76360" y="765000"/>
            <a:ext cx="6121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964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ffffff"/>
                </a:solidFill>
                <a:uFillTx/>
                <a:latin typeface="Garamond"/>
              </a:rPr>
              <a:t>Αριθμητική εφαρμογή: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 Σε μια τυπική περίπτωση όπου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= 3 *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μ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  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dd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=3.3 και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t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=0.5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 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παραπάνω τύπος δίνει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6335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Γράψτε τις εκφράσεις για την περίμετρο Α και το εμβαδό Ε σε μονάδες λ όλων των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ource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 και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drain</a:t>
            </a:r>
            <a:r>
              <a:rPr b="1" lang="el-GR" sz="2800" spc="-1" strike="noStrike">
                <a:solidFill>
                  <a:srgbClr val="e5e5ff"/>
                </a:solidFill>
                <a:latin typeface="Garamond"/>
              </a:rPr>
              <a:t> των τρανζίστορ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4872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05-07-10T10:59:18Z</dcterms:modified>
  <cp:revision>4</cp:revision>
  <dc:subject/>
  <dc:title>PowerPoint Presentation</dc:title>
</cp:coreProperties>
</file>